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07920" y="76320"/>
            <a:ext cx="70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biodiversidad y la historia</a:t>
            </a:r>
            <a:br>
              <a:rPr sz="2800"/>
            </a:b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de la vida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152280" y="640080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1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83400" y="612612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523880" y="28479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LA HISTORIA DE LA VIDA EN LA TIERRA EN IMÁ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1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507440" y="61722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90720" y="76320"/>
            <a:ext cx="80834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historia de la vida en la Ti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en imá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133720" y="9907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d0a"/>
                </a:solidFill>
                <a:latin typeface="Arial"/>
              </a:rPr>
              <a:t>La vida comenzó en el medio acu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_x0014_acuaticocompleto.jpg                                           004D12A7_x0006_aalcon                         C330FE33:"/>
          <p:cNvPicPr/>
          <p:nvPr/>
        </p:nvPicPr>
        <p:blipFill>
          <a:blip r:embed="rId1"/>
          <a:stretch/>
        </p:blipFill>
        <p:spPr>
          <a:xfrm>
            <a:off x="1600200" y="1371600"/>
            <a:ext cx="5292720" cy="4056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1055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Garamond"/>
              </a:rPr>
              <a:t>Anomaloc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874960" y="4114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Trilob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541840" y="4800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pon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70376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Hallucig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923080" y="25146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o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884240" y="15238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u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79864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Volv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112840" y="2955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l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238400" y="55627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organism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celular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 agruparon y formaron colon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219320" y="5867280"/>
            <a:ext cx="847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ás adelante,  aparecieron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eros seres pluricelulares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las algas y los in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52760" y="700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d0a"/>
                </a:solidFill>
                <a:latin typeface="Arial"/>
              </a:rPr>
              <a:t>La vida colonizó el medio terr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_x001f_colonización de la t#4D1370.jpg                                004D12A7_x0006_aalcon                         C330FE33:"/>
          <p:cNvPicPr/>
          <p:nvPr/>
        </p:nvPicPr>
        <p:blipFill>
          <a:blip r:embed="rId1"/>
          <a:stretch/>
        </p:blipFill>
        <p:spPr>
          <a:xfrm>
            <a:off x="2133720" y="1144440"/>
            <a:ext cx="4800600" cy="367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924360" y="41022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nfibio (Ichthyosteg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876920" y="190656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rimeros reptiles (pelicosauri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14600" y="1357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Insectos gig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362320" y="410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Helech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85800" y="5334120"/>
            <a:ext cx="79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trópodo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adaptaron con facilidad a este medio gracias a su exoesqueleto, que les protegía de la dese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5800" y="59436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eces primitiv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parecieron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eros anfibios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que todavía dependían del medio acuático para poner sus huevos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85800" y="48006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helech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 adaptaron a la vida terrestre aunque solo vivían en lugares con mucha humedad, como en los pantanos. Algunos alcanzaron tamaños enor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14600" y="7621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d0a"/>
                </a:solidFill>
                <a:latin typeface="Arial"/>
              </a:rPr>
              <a:t>La vida se extendió y se diversific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_x0017_la vida se extiende.jpg                                        004D12A7_x0006_aalcon                         C330FE33:"/>
          <p:cNvPicPr/>
          <p:nvPr/>
        </p:nvPicPr>
        <p:blipFill>
          <a:blip r:embed="rId1"/>
          <a:stretch/>
        </p:blipFill>
        <p:spPr>
          <a:xfrm>
            <a:off x="2057400" y="1143000"/>
            <a:ext cx="4876920" cy="3736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05740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Ictiosau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34120" y="2286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rchaeroptery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029200" y="3657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mpsognat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724280" y="1828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tegosau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362320" y="367344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Braquiosau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29000" y="2057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Halosau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057400" y="1143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íf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867280" y="49370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Helech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362320" y="1752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terosau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57200" y="54864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reptiles dominaron la Tierra durante muchos años, hasta qu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 dinosaurios se extinguiero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 el plane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57200" y="595944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sta etapa, la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lanta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adaptaron por completo a los ambientes secos; surgieron las plantas con semil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57200" y="495288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independencia total del medio acuático la consiguieron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pti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que se diversificaron en el medio terrestre, pero también en el acuático, ya que algunos volvieron a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819520" y="7621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d0a"/>
                </a:solidFill>
                <a:latin typeface="Arial"/>
              </a:rPr>
              <a:t>Los mamíferos prolifera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_x001f_dominio de los mamif#4D1373.jpg                                004D12A7_x0006_aalcon                         C330FE33:"/>
          <p:cNvPicPr/>
          <p:nvPr/>
        </p:nvPicPr>
        <p:blipFill>
          <a:blip r:embed="rId1"/>
          <a:stretch/>
        </p:blipFill>
        <p:spPr>
          <a:xfrm>
            <a:off x="1870200" y="1270080"/>
            <a:ext cx="5402160" cy="4140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572000" y="2286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chip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09680" y="24224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m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3306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mil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90920" y="495288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lantas con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292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Ave prim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133720" y="2849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crauch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800280" y="57913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grupos de reptiles desarrollaron pelo para regular su temperatura: se originaron así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eros mamífero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38080" y="54864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sta época aparecen la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eras plantas con flores y fru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0:30:16Z</dcterms:created>
  <dc:creator>aalcon aalcon</dc:creator>
  <dc:description/>
  <dc:language>en-US</dc:language>
  <cp:lastModifiedBy>inma</cp:lastModifiedBy>
  <cp:lastPrinted>2010-03-03T16:43:40Z</cp:lastPrinted>
  <dcterms:modified xsi:type="dcterms:W3CDTF">2015-02-01T18:14:11Z</dcterms:modified>
  <cp:revision>59</cp:revision>
  <dc:subject/>
  <dc:title>Presentación de PowerPoint</dc:title>
</cp:coreProperties>
</file>